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6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8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22.jpeg" ContentType="image/jpeg"/>
  <Override PartName="/ppt/media/image15.wmf" ContentType="image/x-wmf"/>
  <Override PartName="/ppt/media/image14.jpeg" ContentType="image/jpeg"/>
  <Override PartName="/ppt/media/image23.wmf" ContentType="image/x-wmf"/>
  <Override PartName="/ppt/media/image9.jpeg" ContentType="image/jpeg"/>
  <Override PartName="/ppt/media/image11.wmf" ContentType="image/x-wmf"/>
  <Override PartName="/ppt/media/image30.wmf" ContentType="image/x-wmf"/>
  <Override PartName="/ppt/media/image33.jpeg" ContentType="image/jpeg"/>
  <Override PartName="/ppt/media/image32.wmf" ContentType="image/x-wmf"/>
  <Override PartName="/ppt/media/image7.wmf" ContentType="image/x-wmf"/>
  <Override PartName="/ppt/media/image20.jpeg" ContentType="image/jpeg"/>
  <Override PartName="/ppt/media/image34.wmf" ContentType="image/x-wmf"/>
  <Override PartName="/ppt/media/image29.jpeg" ContentType="image/jpeg"/>
  <Override PartName="/ppt/media/image35.jpeg" ContentType="image/jpeg"/>
  <Override PartName="/ppt/media/image27.jpeg" ContentType="image/jpeg"/>
  <Override PartName="/ppt/media/image13.wmf" ContentType="image/x-wmf"/>
  <Override PartName="/ppt/media/image36.wmf" ContentType="image/x-wmf"/>
  <Override PartName="/ppt/media/image38.png" ContentType="image/png"/>
  <Override PartName="/ppt/media/image39.jpeg" ContentType="image/jpeg"/>
  <Override PartName="/ppt/media/image40.jpeg" ContentType="image/jpeg"/>
  <Override PartName="/ppt/media/image8.wmf" ContentType="image/x-wmf"/>
  <Override PartName="/ppt/media/image31.jpeg" ContentType="image/jpeg"/>
  <Override PartName="/ppt/media/image10.wmf" ContentType="image/x-wmf"/>
  <Override PartName="/ppt/media/image12.jpeg" ContentType="image/jpeg"/>
  <Override PartName="/ppt/media/image4.png" ContentType="image/png"/>
  <Override PartName="/ppt/media/image2.jpeg" ContentType="image/jpeg"/>
  <Override PartName="/ppt/media/image25.wmf" ContentType="image/x-wmf"/>
  <Override PartName="/ppt/media/image28.wmf" ContentType="image/x-wmf"/>
  <Override PartName="/ppt/media/image37.jpeg" ContentType="image/jpeg"/>
  <Override PartName="/ppt/media/image3.jpeg" ContentType="image/jpeg"/>
  <Override PartName="/ppt/media/image24.jpeg" ContentType="image/jpeg"/>
  <Override PartName="/ppt/media/image1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22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ftr" idx="23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 type="sldNum" idx="24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4411-356E-4C54-932C-4E1639A7BA0C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2EB6-7D11-4438-A42C-8C73093E0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4D1B-9F55-43BD-AA4F-8B3577A8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0DD3-6FB1-4015-AAFB-21628FE80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584B-05B3-4DD6-8AD5-3CDD6E253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2435-F1ED-4F18-87DE-D8D86B531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8B08-6B9A-4F74-95EF-D37325DD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B516C-AB7D-407C-B6BD-F5D95010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DF31-A32E-48E8-B742-B494518D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726B-73A5-4061-92F6-603F2BC6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6A75-03E6-448E-81A8-97163C9C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F9D3-D945-4D01-897C-70E2AB4B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E1D9-372E-4F3F-A8DB-521D4D7F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7F47-EA35-4AFA-88B7-8A22B2D7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F793-D994-4C48-9095-F055A1FB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B54F-4172-4075-B52F-E8147CDC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04F2-4A0E-419A-8714-E697AA7BB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7105-E42D-486F-802B-862AB8693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9F1B4-A294-4A08-8FD3-AF54529AF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1AC89-F0F8-4310-8A10-BF51B4A3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8A51F-404E-48CC-97A2-46495279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3B276-61CF-4D5D-B6E6-F8079024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45025-A3C2-4661-848F-0F107630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8A07-9389-4C34-8499-E0AB31D8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3BC1A-5B38-4DA5-B905-C818AE7A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D35EC-7C7D-4D8F-95FB-69B702FB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DE332-FABA-4B66-859F-2460172F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F4EA7-F6F8-4A53-A703-FB262155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2738A-AA5D-448A-ACC7-50FBA766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32AF7-609E-40D4-868D-3D0A1363A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0B3A7-FC42-4ABA-8D23-0C5A4FE36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99DFB-007A-4B92-9AED-ED95DCC62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8FC79-BC63-4CCA-8ABA-B179455E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5D859-A5D9-4F5A-96E1-B96DCA9D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DC9C-0221-45FF-9FE9-175FF52C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F47B5-C114-43EB-808F-854BD1F1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7CF8B-3F05-44FA-9478-20935AD3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0711D-52B0-4A75-BCC8-340DF363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77329-EA9D-4ACC-A962-9D7B4687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623DB-4374-49E4-84AD-9FCE3C9B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5D3A6-5216-4E16-8655-0E11FE4E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ACFFC-5A5D-4DAB-B52F-5B4CD2FF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B23F3-2F7F-4636-8E1A-67EF1F1EB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65C6D-EB65-4C79-A189-B6BBD5241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CF541-3197-42B4-958C-81C490A34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9977-3AE0-41B7-BD85-C3D3E928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28A51-C714-4D7F-98F5-B74A63B0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56021-226C-4EA8-80A8-9FEB704D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83828-043E-4FAD-970C-FF669B27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211ED-822D-4130-B8EF-22FD4D2A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A63FB-492C-45C8-849B-BD039168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8932D-EB1D-413D-A75F-8C5E1EF6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B09E7-CD34-4C31-BE28-CFACDB2D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B6A9F-A664-417D-A2BB-E731F713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058F4-E2D4-4C6D-8F1E-ECCDB9D2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7A0F1-5EDC-4374-AC1F-4A03D9C8B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6CC3-7699-4BFA-B1F1-7DD8CC14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FBBF7-4298-4530-805E-D163D6893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AFB5F-A0BE-44CB-89F9-54723207B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CE435-C0AD-4E52-B023-B86B1F8E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256FD-24F6-4510-8CD7-A2122A3C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4E03B-D32E-4964-A1DF-449461AD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6669E-8A3A-449F-BB44-88E5D696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87625-303C-4640-A81A-5AA18037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9E064-5434-4E2D-A625-704A1163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8AB0E-3C48-4539-9B7F-DFDD7731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B691B-159F-4EBE-AAD9-BE6305E1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F271-AAD6-44D7-820D-3D77FCB5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E71C6-E19B-4216-A95D-6A572183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66359-779B-4562-BB47-60CF3E28C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38E5D-ABE2-47AC-9944-FF0514DC7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C2DC0-FE78-4084-85D1-081C43FB9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5E785-374C-4E3C-B534-154D55EB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C5798-DF2F-4501-B34C-6B9363C3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EF255-0231-430D-82A5-6E67BE88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7FC45-475C-44D7-975F-37830822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6A956-7441-488B-B305-D8890F12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1C0BC-E971-4444-A230-D14E61C7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2573-D7A6-4D49-84E3-E66B07AD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19A9E-5090-4D18-B9AC-592702FD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E8B42-A2F9-4995-8835-161EEF34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05FCC-C621-4E0E-89EA-5B89C075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898F5-9DA4-436F-868A-D8F03E99C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3F51A-2F92-49C7-9229-93FDDA1B9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81AD-FFAB-44FB-86F2-0FED5BC3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F7F5-B752-4E9D-A5F4-B7C54CADD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25FF-4DC7-4056-B3C8-89FD7D45B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4525-7954-434A-BF92-DB9470247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DCC5-898A-422D-88ED-23EE6A224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A047-FAF2-40DF-BB8E-6BACD769F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1E96-EAEA-44D2-B116-BA9491752B2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697F-5D99-44DE-B01B-A474593313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270828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CAJAMAR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0" y="944640"/>
            <a:ext cx="9158400" cy="5914800"/>
            <a:chOff x="0" y="944640"/>
            <a:chExt cx="9158400" cy="5914800"/>
          </a:xfrm>
        </p:grpSpPr>
        <p:graphicFrame>
          <p:nvGraphicFramePr>
            <p:cNvPr id="360" name=""/>
            <p:cNvGraphicFramePr/>
            <p:nvPr/>
          </p:nvGraphicFramePr>
          <p:xfrm>
            <a:off x="0" y="944640"/>
            <a:ext cx="9158400" cy="5397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44640"/>
                      <a:ext cx="9158400" cy="539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2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2050920" y="82440"/>
            <a:ext cx="687564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MADRE DE DIOS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0" y="1079640"/>
            <a:ext cx="9158400" cy="5663880"/>
            <a:chOff x="0" y="1079640"/>
            <a:chExt cx="9158400" cy="5663880"/>
          </a:xfrm>
        </p:grpSpPr>
        <p:graphicFrame>
          <p:nvGraphicFramePr>
            <p:cNvPr id="368" name=""/>
            <p:cNvGraphicFramePr/>
            <p:nvPr/>
          </p:nvGraphicFramePr>
          <p:xfrm>
            <a:off x="0" y="1079640"/>
            <a:ext cx="9158400" cy="5132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79640"/>
                      <a:ext cx="9158400" cy="513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0" name=""/>
            <p:cNvSpPr/>
            <p:nvPr/>
          </p:nvSpPr>
          <p:spPr>
            <a:xfrm>
              <a:off x="0" y="637524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1908000" y="237960"/>
            <a:ext cx="7236000" cy="38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AJAMARCA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92000" y="144000"/>
            <a:ext cx="7380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FE POR PRINCIPALES DEPARTAMENTOS 1990-2003 (Miles TM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41400" y="915840"/>
            <a:ext cx="9200880" cy="5899680"/>
            <a:chOff x="41400" y="915840"/>
            <a:chExt cx="9200880" cy="5899680"/>
          </a:xfrm>
        </p:grpSpPr>
        <p:graphicFrame>
          <p:nvGraphicFramePr>
            <p:cNvPr id="378" name=""/>
            <p:cNvGraphicFramePr/>
            <p:nvPr/>
          </p:nvGraphicFramePr>
          <p:xfrm>
            <a:off x="249120" y="915840"/>
            <a:ext cx="8993160" cy="5596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9120" y="915840"/>
                      <a:ext cx="8993160" cy="559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0" name=""/>
            <p:cNvSpPr/>
            <p:nvPr/>
          </p:nvSpPr>
          <p:spPr>
            <a:xfrm>
              <a:off x="41400" y="6356520"/>
              <a:ext cx="200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050920" y="75960"/>
            <a:ext cx="684216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CAFE: EXPORTACION NACIONAL (QQ) Y PRECIOS PROMEDIO (US$ / QQ) AÑOS 1960 –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-36360" y="1190520"/>
            <a:ext cx="9194760" cy="5569920"/>
            <a:chOff x="-36360" y="1190520"/>
            <a:chExt cx="9194760" cy="5569920"/>
          </a:xfrm>
        </p:grpSpPr>
        <p:graphicFrame>
          <p:nvGraphicFramePr>
            <p:cNvPr id="383" name=""/>
            <p:cNvGraphicFramePr/>
            <p:nvPr/>
          </p:nvGraphicFramePr>
          <p:xfrm>
            <a:off x="73080" y="1190520"/>
            <a:ext cx="9085320" cy="5340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8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3080" y="1190520"/>
                      <a:ext cx="9085320" cy="534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5" name=""/>
            <p:cNvSpPr/>
            <p:nvPr/>
          </p:nvSpPr>
          <p:spPr>
            <a:xfrm>
              <a:off x="-36360" y="6423120"/>
              <a:ext cx="27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Fuente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8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835280" y="-30240"/>
            <a:ext cx="685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Verdana"/>
              </a:rPr>
              <a:t>Exportaciones Peruanas de Café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1960 – 2003 en Q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115920" y="1058760"/>
          <a:ext cx="8999640" cy="541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920" y="1058760"/>
                    <a:ext cx="8999640" cy="54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1" name=""/>
          <p:cNvGrpSpPr/>
          <p:nvPr/>
        </p:nvGrpSpPr>
        <p:grpSpPr>
          <a:xfrm>
            <a:off x="7667640" y="4581360"/>
            <a:ext cx="1817640" cy="1440000"/>
            <a:chOff x="7667640" y="4581360"/>
            <a:chExt cx="1817640" cy="1440000"/>
          </a:xfrm>
        </p:grpSpPr>
        <p:sp>
          <p:nvSpPr>
            <p:cNvPr id="392" name=""/>
            <p:cNvSpPr/>
            <p:nvPr/>
          </p:nvSpPr>
          <p:spPr>
            <a:xfrm>
              <a:off x="7885080" y="479736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Cafés </a:t>
              </a:r>
              <a:br>
                <a:rPr sz="1200"/>
              </a:b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Especial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667640" y="4581360"/>
              <a:ext cx="1341360" cy="1440000"/>
            </a:xfrm>
            <a:prstGeom prst="ellipse">
              <a:avLst/>
            </a:prstGeom>
            <a:noFill/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-6480" y="6575400"/>
            <a:ext cx="25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Cámara Peruana de Café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2340000" y="-171360"/>
            <a:ext cx="658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PAPRIKA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-1800" y="914400"/>
            <a:ext cx="9122040" cy="5840640"/>
            <a:chOff x="-1800" y="914400"/>
            <a:chExt cx="9122040" cy="5840640"/>
          </a:xfrm>
        </p:grpSpPr>
        <p:sp>
          <p:nvSpPr>
            <p:cNvPr id="399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l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00" name=""/>
            <p:cNvGraphicFramePr/>
            <p:nvPr/>
          </p:nvGraphicFramePr>
          <p:xfrm>
            <a:off x="82440" y="914400"/>
            <a:ext cx="9037800" cy="5462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2440" y="914400"/>
                      <a:ext cx="9037800" cy="546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0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979640" y="-162360"/>
            <a:ext cx="70214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LCACHOFA EN CONSERV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1999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0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2002, 2003 Y 2004*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38120" y="58294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-2520" y="1039680"/>
            <a:ext cx="9002160" cy="5801040"/>
            <a:chOff x="-2520" y="1039680"/>
            <a:chExt cx="9002160" cy="5801040"/>
          </a:xfrm>
        </p:grpSpPr>
        <p:graphicFrame>
          <p:nvGraphicFramePr>
            <p:cNvPr id="407" name=""/>
            <p:cNvGraphicFramePr/>
            <p:nvPr/>
          </p:nvGraphicFramePr>
          <p:xfrm>
            <a:off x="0" y="1039680"/>
            <a:ext cx="8999640" cy="5197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0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39680"/>
                      <a:ext cx="8999640" cy="519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9" name=""/>
            <p:cNvSpPr/>
            <p:nvPr/>
          </p:nvSpPr>
          <p:spPr>
            <a:xfrm>
              <a:off x="71640" y="6262560"/>
              <a:ext cx="207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EX - </a:t>
              </a: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 A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-2520" y="6564240"/>
              <a:ext cx="184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</a:rPr>
                <a:t>(*) Preliminar hasta Juli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11" name="" descr=""/>
          <p:cNvPicPr/>
          <p:nvPr/>
        </p:nvPicPr>
        <p:blipFill>
          <a:blip r:embed="rId4"/>
          <a:stretch/>
        </p:blipFill>
        <p:spPr>
          <a:xfrm>
            <a:off x="7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123640" y="11556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ERU: EXPORTACION DE MANTECA DE CACAO  POR PAIS DE DESTINO EN TM AÑOS 1998 – 2003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134640" y="1033560"/>
            <a:ext cx="8921880" cy="5816880"/>
            <a:chOff x="134640" y="1033560"/>
            <a:chExt cx="8921880" cy="5816880"/>
          </a:xfrm>
        </p:grpSpPr>
        <p:graphicFrame>
          <p:nvGraphicFramePr>
            <p:cNvPr id="415" name=""/>
            <p:cNvGraphicFramePr/>
            <p:nvPr/>
          </p:nvGraphicFramePr>
          <p:xfrm>
            <a:off x="160200" y="1033560"/>
            <a:ext cx="8896320" cy="5232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1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200" y="1033560"/>
                      <a:ext cx="8896320" cy="523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17" name=""/>
            <p:cNvSpPr/>
            <p:nvPr/>
          </p:nvSpPr>
          <p:spPr>
            <a:xfrm>
              <a:off x="134640" y="6573960"/>
              <a:ext cx="200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Verdana"/>
                </a:rPr>
                <a:t>Fuente: ADUANAS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3664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PERU: ABASTECIMIENTO DE LECHE</a:t>
            </a:r>
            <a:br>
              <a:rPr sz="18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1993-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34920" y="773280"/>
            <a:ext cx="9112320" cy="6311160"/>
            <a:chOff x="34920" y="773280"/>
            <a:chExt cx="9112320" cy="6311160"/>
          </a:xfrm>
        </p:grpSpPr>
        <p:graphicFrame>
          <p:nvGraphicFramePr>
            <p:cNvPr id="424" name=""/>
            <p:cNvGraphicFramePr/>
            <p:nvPr/>
          </p:nvGraphicFramePr>
          <p:xfrm>
            <a:off x="34920" y="773280"/>
            <a:ext cx="9112320" cy="5673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73280"/>
                      <a:ext cx="9112320" cy="567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6" name=""/>
            <p:cNvSpPr/>
            <p:nvPr/>
          </p:nvSpPr>
          <p:spPr>
            <a:xfrm>
              <a:off x="178560" y="6564240"/>
              <a:ext cx="250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 / 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835280" y="-90720"/>
            <a:ext cx="730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RODUCCION NACIONAL DE LECHE POR PRINCIPALES DEPARTAMENTOS   1990 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1440" y="907920"/>
            <a:ext cx="9156960" cy="5923800"/>
            <a:chOff x="1440" y="907920"/>
            <a:chExt cx="9156960" cy="5923800"/>
          </a:xfrm>
        </p:grpSpPr>
        <p:graphicFrame>
          <p:nvGraphicFramePr>
            <p:cNvPr id="431" name=""/>
            <p:cNvGraphicFramePr/>
            <p:nvPr/>
          </p:nvGraphicFramePr>
          <p:xfrm>
            <a:off x="1440" y="907920"/>
            <a:ext cx="9156960" cy="5413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40" y="907920"/>
                      <a:ext cx="9156960" cy="541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3" name=""/>
            <p:cNvSpPr/>
            <p:nvPr/>
          </p:nvSpPr>
          <p:spPr>
            <a:xfrm>
              <a:off x="178560" y="6524640"/>
              <a:ext cx="1465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301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3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l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124000" y="-171720"/>
            <a:ext cx="65628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APA: Precios y volúmenes suministrados al Mercado Mayorista de Lima 2002, 2003 y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-5760" y="836640"/>
            <a:ext cx="9282960" cy="6023880"/>
            <a:chOff x="-5760" y="836640"/>
            <a:chExt cx="9282960" cy="6023880"/>
          </a:xfrm>
        </p:grpSpPr>
        <p:sp>
          <p:nvSpPr>
            <p:cNvPr id="436" name=""/>
            <p:cNvSpPr/>
            <p:nvPr/>
          </p:nvSpPr>
          <p:spPr>
            <a:xfrm>
              <a:off x="-5760" y="6340320"/>
              <a:ext cx="2642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NOTA:  Precio de Papa Blanc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EMMS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37" name=""/>
            <p:cNvGraphicFramePr/>
            <p:nvPr/>
          </p:nvGraphicFramePr>
          <p:xfrm>
            <a:off x="0" y="1052640"/>
            <a:ext cx="9277200" cy="5329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52640"/>
                      <a:ext cx="9277200" cy="532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9" name=""/>
            <p:cNvSpPr/>
            <p:nvPr/>
          </p:nvSpPr>
          <p:spPr>
            <a:xfrm>
              <a:off x="7362720" y="836640"/>
              <a:ext cx="175284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974720" y="91296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T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315200" y="114156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Variación 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380080" y="1081080"/>
              <a:ext cx="73548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80,95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62,86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&lt; 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4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1600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Cajamarc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50920" y="864720"/>
            <a:ext cx="8820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aina de Tara 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OUTH AMERICAN TANNING CORP SAC, CEDEPAS - ACOPIADORES LOCALES,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TRASFORMADORA AGRICOLA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Polvo de Tara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SOCIACION CIVIL "TIERRA" MOLINO SAN MARCOS, AGRO EXPORT CAJAMARCA S.A.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ng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ITESA SRL, EMPRESA DE PRODUCTORES DE MANGO EL PLATANAR SR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Frijol Alubi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MISION DE REGANTES MAGDALENA,  CARE - AGRICULTORES CONDEBAMBA,  ASOCIACION BENEFICA PRISM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,  CARE - CAJAMAR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Lentej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DRA PROD. LENTEJA CAJABAMB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 - LA LIBERTAD,  AGRONEGOCIOS Y CONSULTORES SRL,  CEDEPAS CAJAMARCA - PRODUCTORES 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Ques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PRODUCTOS LACTEOS LOS PINOS SRL,  ASOCIACION DE PRODUCTORES LACTEOS LOS CAMPESINO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EMPRESA DE ALIMENTOS HUACAR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dera Aserradas y Rolliza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OPERATIVA AGRARIA JERUSALEN - ADEF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adenas de Or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HARPAS SA,  DE ORO S.A.,  AUX S.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Textile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MERICAN TRADING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3780000" y="60930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35192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6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0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4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8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2" dur="5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500"/>
                            </p:stCondLst>
                            <p:childTnLst>
                              <p:par>
                                <p:cTn id="31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6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0" dur="500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4" dur="500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8" dur="500"/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500"/>
                            </p:stCondLst>
                            <p:childTnLst>
                              <p:par>
                                <p:cTn id="33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2" dur="500"/>
                                        <p:tgtEl>
                                          <p:spTgt spid="4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3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5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60320" y="84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 ORO</a:t>
            </a:r>
            <a:br>
              <a:rPr sz="2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Cadenas de Oro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1871640" y="2116080"/>
            <a:ext cx="5399280" cy="3845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228600" y="2997360"/>
            <a:ext cx="8915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  <a:ea typeface="Arial"/>
              </a:rPr>
              <a:t>¡Sí se pued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168120" y="838080"/>
            <a:ext cx="8967960" cy="6021720"/>
            <a:chOff x="168120" y="838080"/>
            <a:chExt cx="8967960" cy="6021720"/>
          </a:xfrm>
        </p:grpSpPr>
        <p:sp>
          <p:nvSpPr>
            <p:cNvPr id="307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08" name=""/>
            <p:cNvGraphicFramePr/>
            <p:nvPr/>
          </p:nvGraphicFramePr>
          <p:xfrm>
            <a:off x="182520" y="838080"/>
            <a:ext cx="89535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0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2520" y="838080"/>
                      <a:ext cx="89535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317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18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0" y="907920"/>
          <a:ext cx="8972640" cy="554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07920"/>
                    <a:ext cx="8972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-5040" y="6340320"/>
            <a:ext cx="213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n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411280" y="-76680"/>
            <a:ext cx="627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ORO POR PRINCIPALES EMPRESAS 1991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VOLUCION DEL PRECIO DEL ORO </a:t>
            </a:r>
            <a:br>
              <a:rPr sz="20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Ene 97 – Ago 04  (US$/OZ.TRO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-2160" y="990720"/>
            <a:ext cx="9241560" cy="5893200"/>
            <a:chOff x="-2160" y="990720"/>
            <a:chExt cx="9241560" cy="5893200"/>
          </a:xfrm>
        </p:grpSpPr>
        <p:sp>
          <p:nvSpPr>
            <p:cNvPr id="330" name=""/>
            <p:cNvSpPr/>
            <p:nvPr/>
          </p:nvSpPr>
          <p:spPr>
            <a:xfrm>
              <a:off x="-2160" y="6576840"/>
              <a:ext cx="33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LONDON METAL EXCHANG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31" name=""/>
            <p:cNvGraphicFramePr/>
            <p:nvPr/>
          </p:nvGraphicFramePr>
          <p:xfrm>
            <a:off x="76320" y="990720"/>
            <a:ext cx="9163080" cy="48196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3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990720"/>
                      <a:ext cx="9163080" cy="481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3" name=""/>
            <p:cNvSpPr/>
            <p:nvPr/>
          </p:nvSpPr>
          <p:spPr>
            <a:xfrm>
              <a:off x="929160" y="1285920"/>
              <a:ext cx="801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1997           1998          1999            2000           2001           2002           2003         200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332000" y="155520"/>
            <a:ext cx="7315200" cy="8240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338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39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1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0" y="900000"/>
            <a:ext cx="9158400" cy="5959440"/>
            <a:chOff x="0" y="900000"/>
            <a:chExt cx="9158400" cy="5959440"/>
          </a:xfrm>
        </p:grpSpPr>
        <p:graphicFrame>
          <p:nvGraphicFramePr>
            <p:cNvPr id="344" name=""/>
            <p:cNvGraphicFramePr/>
            <p:nvPr/>
          </p:nvGraphicFramePr>
          <p:xfrm>
            <a:off x="0" y="900000"/>
            <a:ext cx="9158400" cy="564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4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00000"/>
                      <a:ext cx="9158400" cy="564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6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1835280" y="157320"/>
            <a:ext cx="7235640" cy="65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USCO: PASAJEROS EMBARCADOS EN VUEL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0" y="836640"/>
            <a:ext cx="9055080" cy="5913360"/>
            <a:chOff x="0" y="836640"/>
            <a:chExt cx="9055080" cy="5913360"/>
          </a:xfrm>
        </p:grpSpPr>
        <p:graphicFrame>
          <p:nvGraphicFramePr>
            <p:cNvPr id="352" name=""/>
            <p:cNvGraphicFramePr/>
            <p:nvPr/>
          </p:nvGraphicFramePr>
          <p:xfrm>
            <a:off x="0" y="836640"/>
            <a:ext cx="9055080" cy="5427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9055080" cy="54277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354" name=""/>
            <p:cNvSpPr/>
            <p:nvPr/>
          </p:nvSpPr>
          <p:spPr>
            <a:xfrm>
              <a:off x="0" y="638172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1655640" y="122400"/>
            <a:ext cx="7093080" cy="70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UNO: PASAJEROS EMBARCADOS EN VUEL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9-06T15:25:37Z</dcterms:modified>
  <cp:revision>1180</cp:revision>
  <dc:subject/>
  <dc:title>Sin título de diapositiva</dc:title>
</cp:coreProperties>
</file>