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22.jpeg" ContentType="image/jpeg"/>
  <Override PartName="/ppt/media/image15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11.wmf" ContentType="image/x-wmf"/>
  <Override PartName="/ppt/media/image30.wmf" ContentType="image/x-wmf"/>
  <Override PartName="/ppt/media/image33.jpeg" ContentType="image/jpeg"/>
  <Override PartName="/ppt/media/image32.wmf" ContentType="image/x-wmf"/>
  <Override PartName="/ppt/media/image7.wmf" ContentType="image/x-wmf"/>
  <Override PartName="/ppt/media/image20.jpeg" ContentType="image/jpeg"/>
  <Override PartName="/ppt/media/image34.wmf" ContentType="image/x-wmf"/>
  <Override PartName="/ppt/media/image29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36.wmf" ContentType="image/x-wmf"/>
  <Override PartName="/ppt/media/image38.png" ContentType="image/png"/>
  <Override PartName="/ppt/media/image39.jpeg" ContentType="image/jpeg"/>
  <Override PartName="/ppt/media/image40.jpeg" ContentType="image/jpeg"/>
  <Override PartName="/ppt/media/image8.wmf" ContentType="image/x-wmf"/>
  <Override PartName="/ppt/media/image31.jpeg" ContentType="image/jpeg"/>
  <Override PartName="/ppt/media/image10.wmf" ContentType="image/x-wmf"/>
  <Override PartName="/ppt/media/image12.jpeg" ContentType="image/jpeg"/>
  <Override PartName="/ppt/media/image4.png" ContentType="image/png"/>
  <Override PartName="/ppt/media/image2.jpeg" ContentType="image/jpeg"/>
  <Override PartName="/ppt/media/image2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9A64-09C8-46E9-B4F3-E87C2CC71688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C41-00B0-492D-85E0-EC8EE544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7E2A-81DC-4522-8A6D-501538ED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3BA-F5B6-426C-AE88-643860C3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492-D7DF-4F75-A1B6-8FD88DAB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5201-9051-450E-85CA-4EAEF185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C1EA-8140-465B-BEAD-1A4B8B3B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23A3-4762-49AA-BCED-74A83A01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8DAF-4B50-41F1-A580-61BBD9F8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AB63-20CF-41F2-B398-4ADCD014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4DCB-43B3-406D-8BC5-129B49EC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829C-113E-4BCF-B5B6-861201CC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CFB-D964-47DB-BBFB-8ED76DC0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43C3-444F-4983-B695-EC9D2AE6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4449-8D4F-4B4A-881E-0C2EA07D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7C1C-ACDC-4816-9DD2-5683D6AC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CC65-005C-4615-BC92-14F47DCF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5528-57A9-4881-A964-42962889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BC45B-CD01-4BFB-B23C-71173352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B6E33-BE46-46C0-A743-A49B8EEA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D50B7-3236-444C-83BE-2D4B9A1A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C9F64-EF74-487E-883E-27A1CF34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657AB-D7DB-4BDD-8490-AB77CB84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E67-3688-4AFD-9ABF-ED5AFA6E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7CF4C-18FF-4470-9CF5-6E8FB63F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67C9F-E050-4C3B-995F-853E5C8E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1BA47-809E-4FBC-80AF-C19023EA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FB4BC-E1E2-4B8C-8340-9CD7BE1B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2934D-B6D3-440C-B640-50EAEB7B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D720D-F33C-4199-9DED-1CBE4A3D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E882F-9823-48D3-94C1-22DC566E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CAEAC-FF98-48C5-A9BF-A723986B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347E9-069B-4DCB-9BEE-A59E028B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457FC-416D-4DEE-983E-F7DD91BD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2F4-C9FC-4E02-AA53-A19AD608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EB4A2-1484-4AD4-BA9E-CCEC48D4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826AA-5E74-4590-9D49-3FEA4ADF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FA19A-001C-404C-8BCA-E5FEC5FA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D38CC-71FF-46AE-8E0F-F9BF1FBE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F7551-AF67-40BB-8E4C-0B008FE8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27D06-F53C-42DB-A050-2ACEBE17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3FC1F-4856-4340-9CCB-2186DE5F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30846-0173-45FB-AB4A-5F4DC99F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AAC76-3A8A-44E3-978E-9B46DE7F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62C69-0B58-424F-9EFE-8A0424FB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7E2-7B2C-4D43-B801-2031A4F1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6724D-58BA-4686-9D8D-0A5A98F0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D1DB6-AAF4-43AF-B363-A59003D4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7E397-3C33-4F87-B717-F5DCD566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3B4A4-ACDF-4B63-BB87-889226D7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EF984-BF3B-413D-B47D-6061BC3F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80C17-1E09-44CE-811A-CD462EC9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1C655-25A3-4D5C-BADC-A1C3C050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2A7EB-C81A-4F2E-A788-0493832D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AF12A-9CF8-4549-AED8-5DE6A554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54BC1-16B5-4A13-B4F6-A5EF2877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646-D146-4BCD-83EC-4633DC5F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C4EA4-2C96-4A31-AC86-4A9166BD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00772-CF95-4712-B42B-156BB8C9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9C205-D3BC-46AC-973D-1AC7AE77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62C1E-C960-430A-807A-B3F11ED0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E85F4-B72B-48F3-BF23-3C179009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0B696-70AC-41EB-AA45-E4235C47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0886B-6CFD-4F3F-B31B-AA3097DD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328CF-72C0-4B00-A198-6B04C02D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04CE9-2197-4B87-B987-5C79D21C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D30BD-8FF4-455E-BA7D-658766A1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A70-659A-49CB-971E-91C3850A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99621-A144-41DA-8041-C6030570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4F32C-2B5E-4DEA-9C9E-89EFFF42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731DA-6993-4A2C-89ED-2B8EF913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116FE-08DE-4980-88CF-665619D4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AFE6E-B2AC-4823-8D2C-30B29A99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29169-7362-441B-B883-0EDD7F67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911F7-EF31-4BD5-B3F1-06A615D3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45BCE-AFA2-42CF-905A-FEEB4833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81EF2-660A-4A5C-9795-B942BE20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04197-20CA-4AE9-BA5D-D6CF0AB2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0B6-3BEF-412C-A67A-B13045AC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C1A30-032F-4070-B1FE-8EFA08EE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A9EFC-7E36-4916-93D7-361B78CF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DB9A4-3E3C-44CA-8AA0-E87BF3F1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18FAF-8891-4301-9FB7-8B87AB15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5770B-7EBB-479E-B180-FDDC289F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858-F413-49A7-92BC-6ECFAE3E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FA0E-8129-4BF9-9CB9-46073EE06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7699-22D0-4AC3-900B-831EB8F53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D873-0568-4BA0-9506-3B7CDC161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621C-9591-4743-AC6E-DCCF63B76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9C54-B895-480C-8DC8-CFB4491ED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3C4A-CF94-4292-9B25-5C8162667B7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A790-2A1C-437E-9CB7-51059AB2C5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6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36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7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383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392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99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407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415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7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424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431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01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436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7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2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6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07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17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8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30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1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338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9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34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35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25:37Z</dcterms:modified>
  <cp:revision>1180</cp:revision>
  <dc:subject/>
  <dc:title>Sin título de diapositiva</dc:title>
</cp:coreProperties>
</file>